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CHIMES.WAV" ContentType="audio/x-wav"/>
  <Override PartName="/ppt/media/CASHREG.WAV" ContentType="audio/x-wav"/>
  <Override PartName="/ppt/media/CAMERA.WAV" ContentType="audio/x-wav"/>
  <Override PartName="/ppt/media/image1.wmf" ContentType="image/x-wmf"/>
  <Override PartName="/ppt/media/LASER.WAV" ContentType="audio/x-wav"/>
  <Override PartName="/ppt/media/DRIVEBY.WAV" ContentType="audio/x-wav"/>
  <Override PartName="/ppt/media/caralarmoff.wav" ContentType="audio/x-wav"/>
  <Override PartName="/ppt/media/image2.wmf" ContentType="image/x-wmf"/>
  <Override PartName="/ppt/media/yabba-dabba-do.wav" ContentType="audio/x-wav"/>
  <Override PartName="/ppt/media/image4.jpeg" ContentType="image/jpeg"/>
  <Override PartName="/ppt/media/jetflyby2.wav" ContentType="audio/x-wav"/>
  <Override PartName="/ppt/media/bserie06.wav" ContentType="audio/x-wav"/>
  <Override PartName="/ppt/media/zapbig0g.wav" ContentType="audio/x-wav"/>
  <Override PartName="/ppt/media/EXPLODE.WAV" ContentType="audio/x-wav"/>
  <Override PartName="/ppt/media/PROJCTOR.WAV" ContentType="audio/x-wav"/>
  <Override PartName="/ppt/media/image3.wmf" ContentType="image/x-wmf"/>
  <Override PartName="/ppt/media/GUNSHOT.WAV" ContentType="audio/x-wav"/>
  <Override PartName="/ppt/media/highchime.wav" ContentType="audio/x-wav"/>
  <Override PartName="/ppt/media/CARBRAKE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3A2-0CF2-4373-8E4A-1CE4080B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B7ED-6A5C-40CA-8DF3-D1944C39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2284-D6DA-46C9-B182-5ADA7CAD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6DE-660F-4433-9E54-497C7FB5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2BB-4F7A-4447-B555-05B86B22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F99-BEB0-4A9E-80EA-18969785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7A9-C02E-4D3C-8721-9C8CD731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55E-F8B7-4C77-B8C1-C058CE8C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F91-434E-4B49-82D3-5983A434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D02-9A8B-406C-A159-98ED8B71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21B-2673-46CA-99EC-3980F1A7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D2B-0913-4DC9-8D0C-85D03BDE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ED61-B1F0-4305-9BFB-5098FD92C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WHOOSH.WAV"/><Relationship Id="rId8" Type="http://schemas.openxmlformats.org/officeDocument/2006/relationships/audio" Target="../media/GUNSHOT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CASHREG.WAV"/><Relationship Id="rId28" Type="http://schemas.openxmlformats.org/officeDocument/2006/relationships/audio" Target="../media/CASHREG.WAV"/><Relationship Id="rId29" Type="http://schemas.openxmlformats.org/officeDocument/2006/relationships/audio" Target="../media/PROJCTOR.WAV"/><Relationship Id="rId30" Type="http://schemas.openxmlformats.org/officeDocument/2006/relationships/audio" Target="../media/CARBRAKE.WAV"/><Relationship Id="rId31" Type="http://schemas.openxmlformats.org/officeDocument/2006/relationships/audio" Target="../media/DRIVEBY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EXPLODE.WAV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CHIMES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CHIMES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HIMES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zapbig0g.wav"/><Relationship Id="rId8" Type="http://schemas.openxmlformats.org/officeDocument/2006/relationships/audio" Target="../media/CHIMES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CHIMES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zapbig0g.wav"/><Relationship Id="rId8" Type="http://schemas.openxmlformats.org/officeDocument/2006/relationships/audio" Target="../media/CHIMES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jetflyby2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bserie06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bserie06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bserie06.wav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ralarmoff.wav"/><Relationship Id="rId4" Type="http://schemas.openxmlformats.org/officeDocument/2006/relationships/audio" Target="../media/zapbig0g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zapbig0g.wav"/><Relationship Id="rId14" Type="http://schemas.openxmlformats.org/officeDocument/2006/relationships/audio" Target="../media/CHIMES.WAV"/><Relationship Id="rId15" Type="http://schemas.openxmlformats.org/officeDocument/2006/relationships/audio" Target="../media/yabba-dabba-do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Cir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3657600" cy="3657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1523880"/>
            <a:ext cx="3657600" cy="3657600"/>
            <a:chOff x="380880" y="1523880"/>
            <a:chExt cx="3657600" cy="3657600"/>
          </a:xfrm>
        </p:grpSpPr>
        <p:sp>
          <p:nvSpPr>
            <p:cNvPr id="45" name=""/>
            <p:cNvSpPr/>
            <p:nvPr/>
          </p:nvSpPr>
          <p:spPr>
            <a:xfrm flipV="1">
              <a:off x="2209680" y="15238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880" y="33526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8080" y="2057400"/>
              <a:ext cx="274320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838080" y="2133360"/>
              <a:ext cx="274320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47560" y="1676160"/>
              <a:ext cx="152388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371240" y="1676160"/>
              <a:ext cx="167652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6840" y="2666880"/>
              <a:ext cx="34290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56840" y="2743200"/>
              <a:ext cx="34290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191120" y="4648320"/>
            <a:ext cx="53316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4648320"/>
            <a:ext cx="53316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4648320"/>
            <a:ext cx="53316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4419360" y="4648320"/>
            <a:ext cx="53316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495288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548640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6019560" y="4648320"/>
            <a:ext cx="53316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655308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708660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7619760" y="4648320"/>
            <a:ext cx="53316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815328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6400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lf the circum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1295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676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= b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4648320"/>
            <a:ext cx="0" cy="182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2" idx="0"/>
            <a:endCxn id="73" idx="1"/>
          </p:cNvCxnSpPr>
          <p:nvPr/>
        </p:nvCxnSpPr>
        <p:spPr>
          <a:xfrm flipV="1">
            <a:off x="6324480" y="4344480"/>
            <a:ext cx="914760" cy="304200"/>
          </a:xfrm>
          <a:prstGeom prst="curvedConnector3">
            <a:avLst>
              <a:gd name="adj1" fmla="val 2653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75" name=""/>
          <p:cNvGraphicFramePr/>
          <p:nvPr/>
        </p:nvGraphicFramePr>
        <p:xfrm>
          <a:off x="4724280" y="2057400"/>
          <a:ext cx="4114800" cy="11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1148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8320" y="3124080"/>
          <a:ext cx="352080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124080"/>
                    <a:ext cx="35208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648320" y="3533760"/>
          <a:ext cx="3352680" cy="63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533760"/>
                    <a:ext cx="33526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Cir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area of each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2057400"/>
            <a:ext cx="2743200" cy="2362320"/>
            <a:chOff x="533520" y="2057400"/>
            <a:chExt cx="2743200" cy="2362320"/>
          </a:xfrm>
        </p:grpSpPr>
        <p:sp>
          <p:nvSpPr>
            <p:cNvPr id="85" name=""/>
            <p:cNvSpPr/>
            <p:nvPr/>
          </p:nvSpPr>
          <p:spPr>
            <a:xfrm>
              <a:off x="914400" y="2057400"/>
              <a:ext cx="2362320" cy="2362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32004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066680" y="44956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029200"/>
            <a:ext cx="289548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3 )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638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9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6216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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105520" y="2057400"/>
            <a:ext cx="2895480" cy="2362320"/>
            <a:chOff x="5105520" y="2057400"/>
            <a:chExt cx="2895480" cy="2362320"/>
          </a:xfrm>
        </p:grpSpPr>
        <p:sp>
          <p:nvSpPr>
            <p:cNvPr id="94" name=""/>
            <p:cNvSpPr/>
            <p:nvPr/>
          </p:nvSpPr>
          <p:spPr>
            <a:xfrm>
              <a:off x="5638680" y="2057400"/>
              <a:ext cx="2362320" cy="2362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38680" y="32767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0800" y="28958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22100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638680" y="44956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5029200"/>
            <a:ext cx="335304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0 )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56386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0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6216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Cir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area of each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5800" y="2133720"/>
            <a:ext cx="3352680" cy="4419360"/>
            <a:chOff x="685800" y="2133720"/>
            <a:chExt cx="3352680" cy="4419360"/>
          </a:xfrm>
        </p:grpSpPr>
        <p:grpSp>
          <p:nvGrpSpPr>
            <p:cNvPr id="106" name=""/>
            <p:cNvGrpSpPr/>
            <p:nvPr/>
          </p:nvGrpSpPr>
          <p:grpSpPr>
            <a:xfrm>
              <a:off x="1219320" y="2133720"/>
              <a:ext cx="1828800" cy="3657600"/>
              <a:chOff x="1219320" y="2133720"/>
              <a:chExt cx="1828800" cy="365760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1219320" y="3048120"/>
                <a:ext cx="1828800" cy="182880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1179360" y="2173320"/>
                <a:ext cx="1905120" cy="1825560"/>
              </a:xfrm>
              <a:prstGeom prst="ellipse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1257480" y="3086280"/>
                <a:ext cx="1752480" cy="18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24240" y="312444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219320" y="342936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400000">
                <a:off x="1182960" y="3926160"/>
                <a:ext cx="1904760" cy="1825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8580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8120" y="3505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6520" y="30481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876920"/>
              <a:ext cx="289584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62120" y="1981080"/>
            <a:ext cx="2895480" cy="4114800"/>
            <a:chOff x="762120" y="1981080"/>
            <a:chExt cx="2895480" cy="4114800"/>
          </a:xfrm>
        </p:grpSpPr>
        <p:sp>
          <p:nvSpPr>
            <p:cNvPr id="118" name=""/>
            <p:cNvSpPr/>
            <p:nvPr/>
          </p:nvSpPr>
          <p:spPr>
            <a:xfrm>
              <a:off x="1219320" y="3047760"/>
              <a:ext cx="1828800" cy="1752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77600" y="297180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523880" y="304740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43000" y="1981080"/>
              <a:ext cx="236232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3886200"/>
              <a:ext cx="18288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80060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952880" y="30481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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2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3657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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circle. Give an exact area and an approximat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1337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038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9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800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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676520"/>
            <a:ext cx="1752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3 f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74320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352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9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274320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464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25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5410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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1676520"/>
            <a:ext cx="2514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10 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3526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962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25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209680"/>
            <a:ext cx="2514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5 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circle. Give an exact area and an approximat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1337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038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40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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676520"/>
            <a:ext cx="2210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20 c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74320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33526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400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40384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4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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0384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2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4724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144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876920" y="1676520"/>
            <a:ext cx="2743200" cy="2361960"/>
            <a:chOff x="4876920" y="1676520"/>
            <a:chExt cx="2743200" cy="2361960"/>
          </a:xfrm>
        </p:grpSpPr>
        <p:sp>
          <p:nvSpPr>
            <p:cNvPr id="156" name=""/>
            <p:cNvSpPr/>
            <p:nvPr/>
          </p:nvSpPr>
          <p:spPr>
            <a:xfrm>
              <a:off x="5257800" y="1676520"/>
              <a:ext cx="2362320" cy="2361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76920" y="1752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77120" y="2819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294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circle. Give an exact area and an approximat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1911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6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943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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41911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4724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64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1752480"/>
            <a:ext cx="2895480" cy="2362320"/>
            <a:chOff x="228600" y="1752480"/>
            <a:chExt cx="2895480" cy="2362320"/>
          </a:xfrm>
        </p:grpSpPr>
        <p:sp>
          <p:nvSpPr>
            <p:cNvPr id="168" name=""/>
            <p:cNvSpPr/>
            <p:nvPr/>
          </p:nvSpPr>
          <p:spPr>
            <a:xfrm>
              <a:off x="761760" y="1752480"/>
              <a:ext cx="2362320" cy="2362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1760" y="29718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2590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1905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419720" y="4191120"/>
            <a:ext cx="259056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90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59436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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4191120"/>
            <a:ext cx="259056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30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4724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900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419720" y="1752480"/>
            <a:ext cx="2895480" cy="2362320"/>
            <a:chOff x="4419720" y="1752480"/>
            <a:chExt cx="2895480" cy="2362320"/>
          </a:xfrm>
        </p:grpSpPr>
        <p:sp>
          <p:nvSpPr>
            <p:cNvPr id="178" name=""/>
            <p:cNvSpPr/>
            <p:nvPr/>
          </p:nvSpPr>
          <p:spPr>
            <a:xfrm>
              <a:off x="4952880" y="1752480"/>
              <a:ext cx="2362320" cy="2362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2880" y="29718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15000" y="2590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0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9720" y="1905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14800" y="1752480"/>
            <a:ext cx="1904760" cy="1905120"/>
          </a:xfrm>
          <a:prstGeom prst="ellipse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figure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6640" y="5362560"/>
            <a:ext cx="60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70 + ½ (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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12.25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5720" y="5973840"/>
            <a:ext cx="388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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19040" y="4714920"/>
            <a:ext cx="373716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70 + 1/2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3.5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18000" y="59720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89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3240" y="1752480"/>
            <a:ext cx="3276720" cy="1919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1800" y="1751040"/>
            <a:ext cx="3300480" cy="1908000"/>
          </a:xfrm>
          <a:custGeom>
            <a:avLst/>
            <a:gdLst/>
            <a:ahLst/>
            <a:rect l="l" t="t" r="r" b="b"/>
            <a:pathLst>
              <a:path w="2117" h="1193">
                <a:moveTo>
                  <a:pt x="2085" y="0"/>
                </a:moveTo>
                <a:lnTo>
                  <a:pt x="0" y="0"/>
                </a:lnTo>
                <a:lnTo>
                  <a:pt x="0" y="1193"/>
                </a:lnTo>
                <a:lnTo>
                  <a:pt x="2117" y="119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84640" y="1751040"/>
            <a:ext cx="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1800" y="3489480"/>
            <a:ext cx="155520" cy="155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2960" y="1749600"/>
            <a:ext cx="155520" cy="155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5880" y="1758960"/>
            <a:ext cx="155520" cy="155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31800" y="1301760"/>
            <a:ext cx="20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02120" y="20588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3000" y="239400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3360" y="1301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4000" y="1755720"/>
            <a:ext cx="0" cy="190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45640" y="4002120"/>
            <a:ext cx="21096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 1/2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60240" y="4079880"/>
                <a:ext cx="3063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animMotion origin="layout" path="M 0 0 L 0.25 0 E">
                                      <p:cBhvr>
                                        <p:cTn id="501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3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5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90480" y="1703520"/>
            <a:ext cx="1857600" cy="185724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41600" y="1711440"/>
            <a:ext cx="1873080" cy="185724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figure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6640" y="5362560"/>
            <a:ext cx="60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1600 + (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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400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5720" y="59738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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9040" y="4714920"/>
            <a:ext cx="47674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1600 +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18000" y="59720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2856 y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3360" y="1301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25720" y="4016520"/>
            <a:ext cx="14590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50720" y="4079880"/>
                <a:ext cx="3483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611360" y="1711440"/>
            <a:ext cx="1843200" cy="1842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84440" y="1697040"/>
            <a:ext cx="174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3562200"/>
            <a:ext cx="182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96960" y="3394080"/>
            <a:ext cx="160560" cy="160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1703520"/>
            <a:ext cx="160200" cy="160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87880" y="3400560"/>
            <a:ext cx="160200" cy="160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81400" y="1709640"/>
            <a:ext cx="160200" cy="16056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87640" y="126036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y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89120" y="238608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y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68600" y="1698480"/>
            <a:ext cx="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11440" y="239076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y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animMotion origin="layout" path="M -8.33333E-007 1.56069E-006 L 0.4033 0.03167 E">
                                      <p:cBhvr>
                                        <p:cTn id="585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animMotion origin="layout" path="M 8.05556E-006 4.56647E-006 L 0.60469 0.03376 E">
                                      <p:cBhvr>
                                        <p:cTn id="587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208 L 0.40156 0.03376 E">
                                      <p:cBhvr>
                                        <p:cTn id="591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89017E-006 L 0.39358 0.03029 E">
                                      <p:cBhvr>
                                        <p:cTn id="595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9. Which has a greater area, a circle with radius 2 m or a square with side length 2 m? Explai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2240" y="5305320"/>
            <a:ext cx="60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(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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4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5720" y="5959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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5480" y="4729320"/>
            <a:ext cx="47671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6080" y="4118040"/>
            <a:ext cx="18248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50800" y="1674720"/>
            <a:ext cx="2743200" cy="2361960"/>
            <a:chOff x="550800" y="1674720"/>
            <a:chExt cx="2743200" cy="2361960"/>
          </a:xfrm>
        </p:grpSpPr>
        <p:sp>
          <p:nvSpPr>
            <p:cNvPr id="231" name=""/>
            <p:cNvSpPr/>
            <p:nvPr/>
          </p:nvSpPr>
          <p:spPr>
            <a:xfrm>
              <a:off x="931680" y="1674720"/>
              <a:ext cx="2362320" cy="2361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0800" y="17506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51000" y="2817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03280" y="2436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162160" y="2816280"/>
            <a:ext cx="1143000" cy="1143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82840" y="2435400"/>
            <a:ext cx="7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81520" y="5081760"/>
            <a:ext cx="37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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72160" y="4367160"/>
            <a:ext cx="24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(2)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172120" y="5862600"/>
            <a:ext cx="1990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ircl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animMotion origin="layout" path="M 0 0 L 0.38577 -0.06127 E">
                                      <p:cBhvr>
                                        <p:cTn id="65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animMotion origin="layout" path="M 0 0 L 0.38577 -0.06127 E">
                                      <p:cBhvr>
                                        <p:cTn id="65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yabba-dabba-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4-14T18:09:35Z</dcterms:modified>
  <cp:revision>17</cp:revision>
  <dc:subject/>
  <dc:title>No Slide Title</dc:title>
</cp:coreProperties>
</file>